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EB040-E260-4847-B3AA-ABD77A94F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F368E-B0C6-4D74-A6E6-1307C2CFF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4924D-2FD0-4EC0-BC8D-CD66F4442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9F3D9-9F9D-48C3-A3BD-032748810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CC73-1B2A-40EF-A88B-2F0D623EE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0867-AA77-4AE1-B565-F85191B09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22D6F-41EA-4676-AB38-81BA64CE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9BD68-5A39-46EA-B8D1-CF405F7E0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E1C3C-8A7D-4628-8C9C-23103966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0980-D942-4B1B-B646-B6B8BB3B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4702-D0F6-4A05-8A0F-31C8931F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78A9-55E0-443F-9A10-DFA99127A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3A8E-016C-49C5-9B07-1C4B6D4D4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19520" y="1219320"/>
            <a:ext cx="3457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siunea iunie - iulie</a:t>
            </a:r>
            <a:endParaRPr b="0" lang="en-US" sz="24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7a3</cp:lastModifiedBy>
  <dcterms:modified xsi:type="dcterms:W3CDTF">2012-06-10T05:14: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